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7BD-65B6-49E0-934D-2F90BD1F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B99-FC8D-4088-8AC4-F520226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A5A-882D-48E1-B2BE-064BC0D5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AE4-EA48-435A-81E6-3544E8E0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842-5450-41C0-A742-56248E6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D4E-E680-4E07-873E-C6288E17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936-36AB-418C-9449-4B51D188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445-2A27-471B-B84A-7765AC74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48B-22FA-4082-A345-7B77269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D0F-3F1E-449A-8689-2C2F2E8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BD0-508A-4D98-8AD5-E7E420C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84A-7BA6-48D8-AEDB-20EAD31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434C-EB63-46D6-8E16-91C3A421F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L 6 – DATA HAND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ly test hypothesis requiring complex lin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lex queries on a teacher prepared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Arial"/>
              </a:rPr>
              <a:t>AND, OR, NOT – with reasons for query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116000" y="0"/>
            <a:ext cx="4533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5148360" y="2349360"/>
            <a:ext cx="28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Bradley Hand IT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340000" y="27813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radley Hand ITC"/>
              </a:rPr>
              <a:t>Mobile Disc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340000" y="3357720"/>
            <a:ext cx="309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radley Hand ITC"/>
              </a:rPr>
              <a:t>Pupils were required to collate details of their favourite CDs  and tracks. All fieldnames were collectively decided and details was gathered on a data collection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268360" y="4221000"/>
            <a:ext cx="3240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1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– A data collection form complete with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2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-  Database created using Microsoft Access – first copy with errors (and shown) and second showing errors corr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3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– Database sorted by TITLE and Pie Chart of the different music Gen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4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 - Simple Queries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( Genre = Rock and Artist = Oas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5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– Complex Queries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( 1. Artist = Oasis 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OR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GreenDay  2.Released = Between 2004 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AND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 20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33399"/>
                </a:solidFill>
                <a:latin typeface="Bradley Hand ITC"/>
              </a:rPr>
              <a:t>Page 6</a:t>
            </a:r>
            <a:r>
              <a:rPr b="1" lang="en-GB" sz="1100" spc="-1" strike="noStrike">
                <a:solidFill>
                  <a:srgbClr val="000000"/>
                </a:solidFill>
                <a:latin typeface="Bradley Hand ITC"/>
              </a:rPr>
              <a:t> – </a:t>
            </a:r>
            <a:r>
              <a:rPr b="0" lang="en-GB" sz="1100" spc="-1" strike="noStrike">
                <a:solidFill>
                  <a:srgbClr val="000000"/>
                </a:solidFill>
                <a:latin typeface="Bradley Hand ITC"/>
              </a:rPr>
              <a:t>Report on work don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940360" y="692280"/>
            <a:ext cx="2952720" cy="561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form  has been completed with the evidence referenced to relevant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Task Sheet/ Mark Sheet has also been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eacher has shown an understanding of the requirements of LEVEL 6 work and evidence is easily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ype of FORM would guide the Moderators through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255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evel 56 sc2"/>
          <p:cNvPicPr/>
          <p:nvPr/>
        </p:nvPicPr>
        <p:blipFill>
          <a:blip r:embed="rId2"/>
          <a:stretch/>
        </p:blipFill>
        <p:spPr>
          <a:xfrm>
            <a:off x="4284720" y="620640"/>
            <a:ext cx="4521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evel 56 sc3"/>
          <p:cNvPicPr/>
          <p:nvPr/>
        </p:nvPicPr>
        <p:blipFill>
          <a:blip r:embed="rId1"/>
          <a:stretch/>
        </p:blipFill>
        <p:spPr>
          <a:xfrm>
            <a:off x="324000" y="1052640"/>
            <a:ext cx="8537400" cy="538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opy of level 56 sc4"/>
          <p:cNvPicPr/>
          <p:nvPr/>
        </p:nvPicPr>
        <p:blipFill>
          <a:blip r:embed="rId1"/>
          <a:stretch/>
        </p:blipFill>
        <p:spPr>
          <a:xfrm>
            <a:off x="755640" y="620640"/>
            <a:ext cx="676908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level 56 sc5"/>
          <p:cNvPicPr/>
          <p:nvPr/>
        </p:nvPicPr>
        <p:blipFill>
          <a:blip r:embed="rId2"/>
          <a:stretch/>
        </p:blipFill>
        <p:spPr>
          <a:xfrm>
            <a:off x="1908000" y="3716280"/>
            <a:ext cx="6769440" cy="2800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"/>
          <p:cNvSpPr/>
          <p:nvPr/>
        </p:nvSpPr>
        <p:spPr>
          <a:xfrm>
            <a:off x="32400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539640" y="620640"/>
            <a:ext cx="8028000" cy="3198960"/>
            <a:chOff x="539640" y="620640"/>
            <a:chExt cx="8028000" cy="3198960"/>
          </a:xfrm>
        </p:grpSpPr>
        <p:pic>
          <p:nvPicPr>
            <p:cNvPr id="59" name="Picture 5" descr="level 56 sc7"/>
            <p:cNvPicPr/>
            <p:nvPr/>
          </p:nvPicPr>
          <p:blipFill>
            <a:blip r:embed="rId1"/>
            <a:stretch/>
          </p:blipFill>
          <p:spPr>
            <a:xfrm>
              <a:off x="539640" y="620640"/>
              <a:ext cx="80280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1547640" y="620640"/>
              <a:ext cx="1512720" cy="43344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"/>
            <p:cNvSpPr/>
            <p:nvPr/>
          </p:nvSpPr>
          <p:spPr>
            <a:xfrm>
              <a:off x="2916000" y="981000"/>
              <a:ext cx="0" cy="648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8" descr="level 56 sc12"/>
          <p:cNvPicPr/>
          <p:nvPr/>
        </p:nvPicPr>
        <p:blipFill>
          <a:blip r:embed="rId2"/>
          <a:stretch/>
        </p:blipFill>
        <p:spPr>
          <a:xfrm>
            <a:off x="4932360" y="3854520"/>
            <a:ext cx="3406680" cy="2811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evel 56 sc10"/>
          <p:cNvPicPr/>
          <p:nvPr/>
        </p:nvPicPr>
        <p:blipFill>
          <a:blip r:embed="rId1"/>
          <a:stretch/>
        </p:blipFill>
        <p:spPr>
          <a:xfrm>
            <a:off x="468360" y="692280"/>
            <a:ext cx="8496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2060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imple Query 1 – GENRE = ‘ROC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076640"/>
            <a:ext cx="35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imple Query 2 – TITLE = ‘OASI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30108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60436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0" y="3933720"/>
            <a:ext cx="8477280" cy="174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3492360" y="5589720"/>
            <a:ext cx="5220000" cy="1079280"/>
          </a:xfrm>
          <a:prstGeom prst="rect">
            <a:avLst/>
          </a:prstGeom>
          <a:ln w="0">
            <a:noFill/>
          </a:ln>
        </p:spPr>
      </p:pic>
      <p:sp>
        <p:nvSpPr>
          <p:cNvPr id="73" name="Oval 11"/>
          <p:cNvSpPr/>
          <p:nvPr/>
        </p:nvSpPr>
        <p:spPr>
          <a:xfrm>
            <a:off x="971640" y="3284640"/>
            <a:ext cx="720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3635280" y="3284640"/>
            <a:ext cx="720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5219640" y="6093000"/>
            <a:ext cx="1728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5940360" y="3789360"/>
            <a:ext cx="1008000" cy="20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2195640" y="620640"/>
            <a:ext cx="1152360" cy="19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292720" y="2349360"/>
            <a:ext cx="352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mplex Query 1 – ARTIST = ‘OASIS’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‘GREEN DAY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0" y="5805360"/>
            <a:ext cx="352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mplex Query 2 – RELEASE DATE = Between 2004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level 56 sc13"/>
          <p:cNvPicPr/>
          <p:nvPr/>
        </p:nvPicPr>
        <p:blipFill>
          <a:blip r:embed="rId1"/>
          <a:stretch/>
        </p:blipFill>
        <p:spPr>
          <a:xfrm>
            <a:off x="0" y="189000"/>
            <a:ext cx="4522680" cy="623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405320" cy="626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395280" y="189000"/>
            <a:ext cx="8209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le Dis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g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10:22Z</dcterms:created>
  <dc:creator>Glenda</dc:creator>
  <dc:description/>
  <dc:language>en-US</dc:language>
  <cp:lastModifiedBy>Janine</cp:lastModifiedBy>
  <dcterms:modified xsi:type="dcterms:W3CDTF">2009-02-10T16:43:35Z</dcterms:modified>
  <cp:revision>5</cp:revision>
  <dc:subject/>
  <dc:title>Slide 1</dc:title>
</cp:coreProperties>
</file>